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22AF-7517-4682-A241-6C90790E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A7D3-9217-467A-89A4-42834391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6E89-FE16-4D51-B21E-1F2C951B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E60-9606-45FB-BB93-198DC37E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9FA1-BADA-4720-9272-862F291E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7E88-2F8E-48B3-8372-CC832132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493E-07F5-4BD6-B41C-2693669B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4A32-F7BC-49BD-BCB3-E59708F0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EC88-8296-4AD7-B891-69415A6D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BF3C-4A58-4777-8B97-B58E8963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CDBF-F943-4C39-ADEB-561CF36D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C0C0-1D95-4F9E-980C-1273521B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C1DC-EB0E-43C7-B36C-F13D08B4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EBE8-A6D6-475F-9E43-200EDDE3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67C0-3BFA-43C4-AA30-817259CF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128D-4330-4A1A-8057-22B6E077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CBAA-0F75-4383-B2A6-44637ADE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6FB0-008B-4C59-8961-8047B5D0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0133-63F1-410C-ABD8-713A4C97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A838-C655-477B-BBD6-E43408C5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C60A-6C24-4982-A488-708D388F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6942-9594-4C55-92BC-5F609393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DCD9-6C1E-42EB-B376-7ECB1EF9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08A-3D77-4AC3-8752-84D52060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8078-FFB6-4463-943B-C6A815485C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C96D-0128-42D4-80E2-C50B353A17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Co-Teaching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ttney Sm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elphi Univers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3203280" cy="2873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arge Group – Small Group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ither teacher can take either role (one leads the small group and one the larg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se groups could be divided homogeneously and one could leave the ro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s may be beneficial if the content needs many adaptations or accommodations to meet the needs of the students with learning dis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ag – Team Teach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pproach needs ample planning in order to be success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s cooperation and teamwork within th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co-teacher will take over the lesson at different ti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voices are heard throughout the les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Roles and Responsibilities in 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o-Teaching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3813120" cy="3495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Responsibilities of Inclusion Team Memb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an Curricul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apt In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liver In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sess Student Prog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ade / Evalu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eep Rec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ent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e / Adapt Materi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velop Instructional Strate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641240"/>
            <a:ext cx="4114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ilitate Test Mod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-Teach / Reinforce Les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 Emotional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e I.E.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 I.E.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e Behavior Modification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 Behavior Modification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816280" y="1687680"/>
            <a:ext cx="3508200" cy="3482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00400" y="838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ent Area Specia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419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ecial Educ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44197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aching Assistant Teacher A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structional Strateg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-2851" t="11701" r="12061" b="25109"/>
          <a:stretch/>
        </p:blipFill>
        <p:spPr>
          <a:xfrm>
            <a:off x="2133720" y="1600200"/>
            <a:ext cx="4937040" cy="502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lusion Classroom Strateg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urse Outline / Unit Assignment Gu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ick to a routine throughout the y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quire students to use a three-ring binder; make sure all handouts are hole-pun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tribute inclusion students evenly in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rain from confronting students in front of th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lusion Classroom Strateg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 sure teachers and TA’s have copies of test modifications (Chapter 40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duct notebook checks regula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e graphic organiz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velop an interactive study gu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sign critical vocabulary words and concepts at the beginning of a un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rite notes on board from left to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lusion Classroom Strateg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rvey the class before erasing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e an outlin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rite homework assignments consistently in the same place or utilize a weekly assignment sh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vide review guides for ex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upport Strategies for Inclusion Classroom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30600" y="2438280"/>
            <a:ext cx="3670200" cy="3619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9312" t="0" r="10830" b="34372"/>
          <a:stretch/>
        </p:blipFill>
        <p:spPr>
          <a:xfrm>
            <a:off x="1333440" y="152280"/>
            <a:ext cx="6591240" cy="670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rrangement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operative Learning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ired Reading / Wri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duced seat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fic seating arran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fic Behavior Plan/C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48320" y="2070000"/>
            <a:ext cx="3809880" cy="359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Materials / Equipmen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oks on ta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deos,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corders (Ipods,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munication a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uters / laptops (Ne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c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809880" cy="3038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urriculum Aid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y Gu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ocabulary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in Idea Summa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riting Process A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-Written N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phic Organiz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arning Lo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zational A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keletal Out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ighlight Reading Mater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lti-sensory Presen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dividualized Suppor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acilitation (communication, movement, think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ened / Modified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al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en Notebook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-word, Re-phrase Instructions/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icture C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ltiple Intellig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arent Involvemen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65360" y="1600200"/>
            <a:ext cx="3301920" cy="396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at parents want…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ent open house mee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ent newsle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es in the student’s plan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ent handb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ear and concise homework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“bag of tricks” to use at h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 to know their child’s learning style and I.E.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aluate the Inclusion Model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udent, teacher, parent questionnai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A and Math Assessments (6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7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&amp; 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Grad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cial Studies and Science (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gra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inued collaboration and reflective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15677" t="11405" r="8878" b="25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10571" t="10531" r="10764" b="19271"/>
          <a:stretch/>
        </p:blipFill>
        <p:spPr>
          <a:xfrm>
            <a:off x="1447920" y="76320"/>
            <a:ext cx="6514920" cy="6553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Effective Practice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-Teaching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alized support within the heterogeneous, general education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al education and general education teachers meet, plan, and teach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aptations in materials, methodology, presentation, and strate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nefits students with disabilities, at-risk students, and higher functioning students simultaneous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ix Examples of Cooperative Teach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ent Area Specialist – Ob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ent Area Specialist – Flo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allel Teac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ation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rge Group – Small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ag – Team Teac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ntent Area Specialist - Observer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ent Area Specialist presents material to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pecial Educator makes purposeful observations about a student or group of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riteria is determined before-hand and discussed af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oles can be rever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ntent Area Specialist – Floater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ly used co-teaching 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ent Area teacher delivers the material while the special educator floats around the room addressing individual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educator also clarifies directions, asks questions, and facilitates the les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les can be rever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arallel Teach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th teachers are presenting the material simultaneously to a group of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groups can be divided either heterogeneously or homogeneous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s allows for a smaller student to teacher ratio and more individualized at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tion Approach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signal is needed to divide class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ch teacher is presenting a different portion of content material to a different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 the signal, the groups swi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2T22:29:11Z</dcterms:created>
  <dc:creator>Whittney Smith</dc:creator>
  <dc:description/>
  <dc:language>en-US</dc:language>
  <cp:lastModifiedBy>User</cp:lastModifiedBy>
  <dcterms:modified xsi:type="dcterms:W3CDTF">2010-03-04T16:35:56Z</dcterms:modified>
  <cp:revision>16</cp:revision>
  <dc:subject/>
  <dc:title>PowerPoint Presentation</dc:title>
</cp:coreProperties>
</file>